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  <p:sldId id="305" r:id="rId6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slide" Target="slides/slide50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196D2-7832-4716-ABA5-3AAE1F34253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91828-A66A-4718-BE0E-F071ED75A86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6E10A-3B2E-4E48-BA06-296806EF8EA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49738-763C-4BFB-869B-D4319611B0E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8FD46-3730-4F8E-B521-53B42173EA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0DD40-C3F7-4B8A-940C-ED359D4DFEF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00270-59B5-4D4D-941A-5F6D5762F33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F3E01-A3EE-4D5A-A85F-71D9E52FC6D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3F13B-6C69-4273-929B-8387FFF91A0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1BAD1-58F5-4D2C-A899-E78CCB42BF4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767BB-08C8-456E-ACCD-CCDC0666379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11C95-96E7-4D6B-9C8B-D6C8D5B2329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hyperlink" Target="http://www.semantic-web-grundlagen.de/" TargetMode="External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hyperlink" Target="http://www.semantic-web-grundlagen.de/" TargetMode="External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"/>
          <p:cNvPicPr/>
          <p:nvPr/>
        </p:nvPicPr>
        <p:blipFill>
          <a:blip r:embed="rId6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" name="Rectangle 8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7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7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6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1" name="Picture 8" descr=""/>
          <p:cNvPicPr/>
          <p:nvPr/>
        </p:nvPicPr>
        <p:blipFill>
          <a:blip r:embed="rId7"/>
          <a:stretch/>
        </p:blipFill>
        <p:spPr>
          <a:xfrm>
            <a:off x="0" y="12600"/>
            <a:ext cx="13004640" cy="975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826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2" marL="1727280" indent="-571680">
              <a:spcBef>
                <a:spcPts val="2401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3" marL="2171880" indent="-571680">
              <a:spcBef>
                <a:spcPts val="2401"/>
              </a:spcBef>
              <a:buClr>
                <a:srgbClr val="000000"/>
              </a:buClr>
              <a:buFont typeface="Helvetica Neu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4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5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6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-12600" y="1752480"/>
            <a:ext cx="11849040" cy="63720"/>
          </a:xfrm>
          <a:prstGeom prst="rect">
            <a:avLst/>
          </a:prstGeom>
          <a:gradFill rotWithShape="0">
            <a:gsLst>
              <a:gs pos="0">
                <a:srgbClr val="fcfefe"/>
              </a:gs>
              <a:gs pos="100000">
                <a:srgbClr val="de332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 rot="5400000">
            <a:off x="542880" y="1393560"/>
            <a:ext cx="355320" cy="1206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3"/>
          <a:stretch/>
        </p:blipFill>
        <p:spPr>
          <a:xfrm>
            <a:off x="0" y="54612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4"/>
          <a:srcRect l="0" t="0" r="0" b="89741"/>
          <a:stretch/>
        </p:blipFill>
        <p:spPr>
          <a:xfrm>
            <a:off x="0" y="-63360"/>
            <a:ext cx="1447920" cy="6094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3"/>
          <p:cNvSpPr>
            <a:spLocks noGrp="1"/>
          </p:cNvSpPr>
          <p:nvPr>
            <p:ph type="sldNum" idx="1"/>
          </p:nvPr>
        </p:nvSpPr>
        <p:spPr>
          <a:xfrm>
            <a:off x="12661920" y="9410400"/>
            <a:ext cx="3427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F2EF9-0B5E-48EE-8D28-56165578926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5" name="Picture 8" descr=""/>
          <p:cNvPicPr/>
          <p:nvPr/>
        </p:nvPicPr>
        <p:blipFill>
          <a:blip r:embed="rId5"/>
          <a:stretch/>
        </p:blipFill>
        <p:spPr>
          <a:xfrm>
            <a:off x="0" y="12600"/>
            <a:ext cx="13004640" cy="975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1" descr=""/>
          <p:cNvPicPr/>
          <p:nvPr/>
        </p:nvPicPr>
        <p:blipFill>
          <a:blip r:embed="rId2"/>
          <a:stretch/>
        </p:blipFill>
        <p:spPr>
          <a:xfrm>
            <a:off x="0" y="12600"/>
            <a:ext cx="13004640" cy="975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un.org/%23" TargetMode="External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hyperlink" Target="http://www.semantic-web-grundlagen.de/index.php/Kapitel_2" TargetMode="External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www.w3.org/2000/01/rdf-schema%23" TargetMode="External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w3.org/2000/01/rdf-schema%23" TargetMode="External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1"/>
          <p:cNvSpPr/>
          <p:nvPr/>
        </p:nvSpPr>
        <p:spPr>
          <a:xfrm>
            <a:off x="127008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  <a:ea typeface="Bodoni SvtyTwo SC ITC TT-Book"/>
              </a:rPr>
              <a:t>Semantic Web Technologies I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Rectangle 2"/>
          <p:cNvSpPr/>
          <p:nvPr/>
        </p:nvSpPr>
        <p:spPr>
          <a:xfrm>
            <a:off x="1270080" y="4940280"/>
            <a:ext cx="1046484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Lehrveranstaltung im WS08/09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M.Sc. Markus Krötzsc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PD Dr. Pascal Hitzler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6963-BD0D-4388-AC7E-54E7DCD3006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 und Instanz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70080" y="1981080"/>
            <a:ext cx="11531520" cy="901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ypisierung von Ressourcen bereits in RDF zur Kennzeichnung von Listen: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Prädikat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type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weist dem Subjekt das Objekt als Typ zu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Objekt aufgefasst als Bezeichner für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Klasse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, der die durch das Subjekt bezeichnete Ressource (als sog.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Instanz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) angehört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36" name="Picture 3" descr=""/>
          <p:cNvPicPr/>
          <p:nvPr/>
        </p:nvPicPr>
        <p:blipFill>
          <a:blip r:embed="rId1"/>
          <a:stretch/>
        </p:blipFill>
        <p:spPr>
          <a:xfrm>
            <a:off x="3808440" y="3213000"/>
            <a:ext cx="8066160" cy="2616480"/>
          </a:xfrm>
          <a:prstGeom prst="rect">
            <a:avLst/>
          </a:prstGeom>
          <a:ln w="0">
            <a:noFill/>
          </a:ln>
        </p:spPr>
      </p:pic>
      <p:sp>
        <p:nvSpPr>
          <p:cNvPr id="437" name="Oval 4"/>
          <p:cNvSpPr/>
          <p:nvPr/>
        </p:nvSpPr>
        <p:spPr>
          <a:xfrm>
            <a:off x="3835440" y="4559400"/>
            <a:ext cx="2921040" cy="1409760"/>
          </a:xfrm>
          <a:prstGeom prst="ellipse">
            <a:avLst/>
          </a:prstGeom>
          <a:noFill/>
          <a:ln w="63360">
            <a:solidFill>
              <a:srgbClr val="bf1f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EA307-BF80-4D44-BA15-E965D42C964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 und Instanz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SemanticWeb  rdf:type  ex:Lehrbuch 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harakterisiert „Semantic Web - Grundlagen“ als Instanz der (neu definierten) Klasse „Lehrbuch“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Klassenzugehörigkeit ist nicht exklusiv, z.B. mit o.g. Tripel gleichzeitig möglich: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SemanticWeb  rdf:type  ex:Unterhaltsam .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allgemein: a priori syntaktisch keine eindeutige Unterscheidung zwischen Individuen- und Klassenbezeichnern möglich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auch in der Realität Charakterisierung manchmal schwierig, beispielsweise für</a:t>
            </a:r>
            <a:br>
              <a:rPr sz="3200"/>
            </a:br>
            <a:r>
              <a:rPr b="0" lang="en-US" sz="3200" spc="-1" strike="noStrike" u="sng">
                <a:solidFill>
                  <a:srgbClr val="009999"/>
                </a:solidFill>
                <a:uFillTx/>
                <a:latin typeface="American Typewriter"/>
                <a:ea typeface="American Typewriter"/>
                <a:hlinkClick r:id="rId1"/>
              </a:rPr>
              <a:t>http://www.un.org/#URI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A83F2-4ED1-48A8-8503-EC3E48CD45D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ie Klasse aller 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jedoch manchmal eindeutige Kennzeichnung einer URI als Klassenbezeichner wünschenswer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öglich durch Typung der betreffenden URI als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lass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s:Lehrbuch   rdf:type   rdfs:Class   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lass 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st also die „Klasse aller Klassen“ und enthält sich damit auch selbst, d.h. das folgende Tripel ist immer wahr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lass   rdf:type   rdfs:Class   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0D640-341E-49AA-AE3B-F1BC508CE44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Unterklassen - Motiv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77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gegeben Tripe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SemanticWeb  rdf:type  ex:Lehrbuch 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Problem: Suche nach Instanzen der Klasse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ex:Buch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liefert kein Resulta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öglichkeit: Hinzufügen von Tripe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SemanticWeb  rdf:type  ex:Buch 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löst das Problem aber nur für die eine Ressource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SemanticWeb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utomatisches Hinzufügen für alle Instanzen führt zu unnötig großen RDF-Dokumente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E993A-AE0B-4D60-87AE-A4178FA27D5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Unter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Sinnvoller: einmalige Aussage, dass jedes Lehrbuch auch ein Buch ist, d.h. jede Instanz der Klasse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Lehrbuch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ist automatisch auch eine Instanz der Klasse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Buch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ealisiert durch die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-Property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Lehrbuch   rdfs:subClassOf   ex:Buch  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„Die Klasse der Lehrbücher ist eine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Unterklasse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der Klasse der Bücher.“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6BA54-CE8F-4A2E-BEA5-915D54CEC01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Unter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1000"/>
          </a:bodyPr>
          <a:p>
            <a:pPr marL="630720" indent="-4053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-Property ist reflextiv, d.h. jede Klasse ist Unterklasse von sich selbst, so dass z.B. gilt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Lehrbuch   rdfs:subClassOf   ex:Lehrbuch  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630720" indent="-4053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umgekehrt: Festlegung der Gleichheit zweier Klassen durch gegenseitige Unterklassenbeziehung, etwa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Hospital   rdfs:subClassOf   ex:Krankenhaus 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Krankenhaus   rdfs:subClassOf   ex:Hospital 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63072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630720" indent="-4053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ealisiert durch die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-Property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Lehrbuch   rdfs:subClassOf   ex:Buch  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„Die Klasse der Lehrbücher ist eine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Unterklasse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der Klasse der Bücher.“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E31F8-FDDE-41CE-8DA2-9F895184F7D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hierarchi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Üblich: nicht nur einzelne Unterklassenbeziehungen sondern ganze </a:t>
            </a:r>
            <a:r>
              <a:rPr b="0" i="1" lang="en-US" sz="4000" spc="-1" strike="noStrike">
                <a:solidFill>
                  <a:srgbClr val="000000"/>
                </a:solidFill>
                <a:latin typeface="Helvetica Neue"/>
              </a:rPr>
              <a:t>Klassenhierarchien </a:t>
            </a: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(auch: </a:t>
            </a:r>
            <a:r>
              <a:rPr b="0" i="1" lang="en-US" sz="4000" spc="-1" strike="noStrike">
                <a:solidFill>
                  <a:srgbClr val="000000"/>
                </a:solidFill>
                <a:latin typeface="Helvetica Neue"/>
              </a:rPr>
              <a:t>Taxonomien</a:t>
            </a: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z.B.: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Lehrbuch    rdfs:subClassOf   ex:Buch 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Buch             rdfs:subClassOf   ex:Printmedium 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Zeitschrift   rdfs:subClassOf   ex:Printmedium 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in RDFS-Semantik verankert: Transitivität der </a:t>
            </a:r>
            <a:r>
              <a:rPr b="0" lang="en-US" sz="40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-Property, d.h. es folgt automatisch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Lehrbuch     rdfs:subClassOf   ex:Printmedium 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2B9A9-27D3-4657-BFE5-9304DBCB195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hierarchi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lassenhierarchie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besonders ausgepräg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twa in Biologie (z.B.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Klass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fikation von Lebe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wesen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z.B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zoologische Einord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nung des moderne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ensch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9" name="Rectangle 3"/>
          <p:cNvSpPr/>
          <p:nvPr/>
        </p:nvSpPr>
        <p:spPr>
          <a:xfrm>
            <a:off x="7429680" y="1847880"/>
            <a:ext cx="5562360" cy="78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:RDF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xmlns:rdf="http://www.w3.org/1999/02/22-rdf-syntax-ns#"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xmlns:rdfs="http://www.w3.org/2000/01/rdf-schema#"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xmlns:ex="http://www.semantic-web-grundlagen.de/Beispiele#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Animalia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Tiere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Chordata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Chordatiere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 rdfs:resource="&amp;ex;Animalia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Mammalia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S¨augetiere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 rdfs:resource="&amp;ex;Chordata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Primates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Primaten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 rdfs:resource="&amp;ex;Mammalia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Hominidae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Menschenaffen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 rdfs:resource="&amp;ex;Primates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Homo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Mensch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 rdfs:resource="&amp;ex;Hominidae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HomoSapiens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Moderner Mensch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 rdfs:resource="&amp;ex;Homo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ex:HomoSapiens rdf:about="&amp;ex;SebastianRudolph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:RDF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F35A3-92B4-42FF-8ACB-9140EBDE1F2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tuitive Parallele zur Mengenlehre:</a:t>
            </a:r>
            <a:br>
              <a:rPr sz="4200"/>
            </a:b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type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                 entspricht            </a:t>
            </a:r>
            <a:r>
              <a:rPr b="0" lang="en-US" sz="54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∈</a:t>
            </a:r>
            <a:br>
              <a:rPr sz="5400"/>
            </a:b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    entspricht     </a:t>
            </a:r>
            <a:r>
              <a:rPr b="0" lang="en-US" sz="13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      </a:t>
            </a:r>
            <a:r>
              <a:rPr b="0" lang="en-US" sz="54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⊆</a:t>
            </a:r>
            <a:endParaRPr b="0" lang="en-US" sz="5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chtfertigt beispielsweise auch die Reflexivität und Transitivität von </a:t>
            </a: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8DA80-01EA-4897-8971-59249D7AD26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 in RDF/XML-Syntax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erkürzte Darstellungen bei Angabe von Klasseninstanzen möglich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ex:HomoSapiens rdf:about="&amp;ex;SebastianRudolph"/&gt;</a:t>
            </a:r>
            <a:br>
              <a:rPr sz="2600"/>
            </a:br>
            <a:br>
              <a:rPr sz="26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 Stelle von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:Description rdf:about= "&amp;ex;SebastianRudolph"&gt;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&lt;rdf:type rdf:resource= "&amp;ex;HomoSapiens"&gt;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&lt;/rdf:Description&gt;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ementsprechend auch</a:t>
            </a:r>
            <a:br>
              <a:rPr sz="4200"/>
            </a:br>
            <a:r>
              <a:rPr b="0" lang="en-US" sz="2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HomoSapiens"/&gt;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1638000"/>
            <a:ext cx="1046484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RDF Schema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2882520"/>
            <a:ext cx="10464840" cy="80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98" name="Rectangle 3"/>
          <p:cNvSpPr/>
          <p:nvPr/>
        </p:nvSpPr>
        <p:spPr>
          <a:xfrm>
            <a:off x="7346880" y="3309840"/>
            <a:ext cx="4622760" cy="38916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7345440" y="3325680"/>
            <a:ext cx="4626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3120" tIns="38160" bIns="38160" anchor="b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Semantic Web Architectur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Rectangle 5"/>
          <p:cNvSpPr/>
          <p:nvPr/>
        </p:nvSpPr>
        <p:spPr>
          <a:xfrm>
            <a:off x="7346880" y="3676680"/>
            <a:ext cx="4632480" cy="5716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01" name="Picture 6" descr=""/>
          <p:cNvPicPr/>
          <p:nvPr/>
        </p:nvPicPr>
        <p:blipFill>
          <a:blip r:embed="rId1"/>
          <a:stretch/>
        </p:blipFill>
        <p:spPr>
          <a:xfrm>
            <a:off x="7532640" y="3906720"/>
            <a:ext cx="4280040" cy="443088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7"/>
          <p:cNvSpPr/>
          <p:nvPr/>
        </p:nvSpPr>
        <p:spPr>
          <a:xfrm>
            <a:off x="7643880" y="5780160"/>
            <a:ext cx="3254400" cy="290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Rectangle 8"/>
          <p:cNvSpPr/>
          <p:nvPr/>
        </p:nvSpPr>
        <p:spPr>
          <a:xfrm>
            <a:off x="8507520" y="8313840"/>
            <a:ext cx="17668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Now standardize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Rectangle 9"/>
          <p:cNvSpPr/>
          <p:nvPr/>
        </p:nvSpPr>
        <p:spPr>
          <a:xfrm>
            <a:off x="7643880" y="4502160"/>
            <a:ext cx="4116240" cy="126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Rectangle 10"/>
          <p:cNvSpPr/>
          <p:nvPr/>
        </p:nvSpPr>
        <p:spPr>
          <a:xfrm>
            <a:off x="8150400" y="4546440"/>
            <a:ext cx="1674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Current research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Rectangle 11"/>
          <p:cNvSpPr/>
          <p:nvPr/>
        </p:nvSpPr>
        <p:spPr>
          <a:xfrm>
            <a:off x="7480440" y="3848040"/>
            <a:ext cx="4457520" cy="4876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07" name="Picture 12" descr=""/>
          <p:cNvPicPr/>
          <p:nvPr/>
        </p:nvPicPr>
        <p:blipFill>
          <a:blip r:embed="rId2"/>
          <a:srcRect l="33175" t="59995" r="21726" b="32560"/>
          <a:stretch/>
        </p:blipFill>
        <p:spPr>
          <a:xfrm>
            <a:off x="8940960" y="6591240"/>
            <a:ext cx="1930320" cy="33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8" name=""/>
          <p:cNvGraphicFramePr/>
          <p:nvPr/>
        </p:nvGraphicFramePr>
        <p:xfrm>
          <a:off x="687240" y="3683160"/>
          <a:ext cx="6070680" cy="5059080"/>
        </p:xfrm>
        <a:graphic>
          <a:graphicData uri="http://schemas.openxmlformats.org/drawingml/2006/table">
            <a:tbl>
              <a:tblPr/>
              <a:tblGrid>
                <a:gridCol w="6070680"/>
              </a:tblGrid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leitung und Ausblic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ML und URI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führung in RDF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DF Schem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k - Grundl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RDF(S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emantik und Reason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RQ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SPARQL und konjunktive Anfr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1.1 - Syntax und Semanti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c Web und Regel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09" name="Rectangle 63"/>
          <p:cNvSpPr/>
          <p:nvPr/>
        </p:nvSpPr>
        <p:spPr>
          <a:xfrm>
            <a:off x="660240" y="4952880"/>
            <a:ext cx="6108840" cy="432000"/>
          </a:xfrm>
          <a:prstGeom prst="rect">
            <a:avLst/>
          </a:prstGeom>
          <a:noFill/>
          <a:ln w="88920">
            <a:solidFill>
              <a:srgbClr val="bf1f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Rectangle 64"/>
          <p:cNvSpPr/>
          <p:nvPr/>
        </p:nvSpPr>
        <p:spPr>
          <a:xfrm>
            <a:off x="-12600" y="9455040"/>
            <a:ext cx="15011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entspricht dem zweiten Teil von Kapitel 3 des Buches „Semantic Web - Grundlagen“ - siehe auch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Helvetica Neue"/>
                <a:ea typeface="Helvetica Neue"/>
                <a:hlinkClick r:id="rId3"/>
              </a:rPr>
              <a:t>http://www.semantic-web-grundlagen.de/index.php/Kapitel_3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15CC0-8B2A-4359-95A4-4667858FCFC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Vordefinierte Klassenbezeichner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Resourc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Klasse aller Ressourcen (also sämtliche Elemente des Gegenstandsbereiches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Propert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Klasse aller Beziehung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(= die Ressourcen, die durch Prädikats-URIs referenziert werden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List, rdf:Seq, rdf:Bag, rdf:Alt, rdfs:Contain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Klassen verschiedener Arten von List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ontainerMembershipPropert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Klasse aller Beziehungen, die eine Enthaltenseinsbeziehung darstell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37803-3E1F-473C-8B81-61958C7221F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Vordefinierte Klassenbezeichner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270080" y="2018880"/>
            <a:ext cx="11531520" cy="824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XMLLiter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lasse aller Werte des vordefinierten Datentyps XMLLitera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Liter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lasse aller Literalwerte (enthält also alle Datentypen als Unterklassen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Datatyp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lasse aller Datentypen (ist also wie rdfs:Class eine Klasse von Klassen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Statemen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lasse aller reifizierten Aussagen (s. dort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FAE12-00AE-43F0-B2FB-6B3E570EA0F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AD33A-CB97-4679-BB7A-BE8CD7CD575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Property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andere Bezeichnungen: Relationen, Beziehung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Achtung: Propertys sind in RDF(S) nicht (wie in OOP) speziellen Klassen zugeodne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Property-Bezeichner in Tripeln üblicherweise an Prädikatsstelle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harakterisieren, auf welche Art zwei Ressourcen zueinander in Beziehung steh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mathematisch oft dargestellt als Menge von Paare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verheiratet_mit = {(Adam,Eva),(Brad,Angelina),...}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URI wird als Property-Bezeichner gekennzeichnet durch entsprechende Typung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verlegtBei   rdf:type   rdf:Property   .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0EA90-46AC-4DE2-BC01-2DEEF743BED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Unterproperty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69800" y="2425680"/>
            <a:ext cx="12420720" cy="675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-3049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ähnlich zu Unter-/Oberklassen auch Unter-/Oberpropertys denkbar und sinnvoll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-3049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Darstellung in RDFS mittels </a:t>
            </a:r>
            <a:r>
              <a:rPr b="0" lang="en-US" sz="3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PropertyOf</a:t>
            </a: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 z.B.: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merican Typewriter Condensed"/>
                <a:ea typeface="American Typewriter Condensed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American Typewriter Condensed"/>
                <a:ea typeface="American Typewriter Condensed"/>
              </a:rPr>
              <a:t>ex:glücklichVerheiratetMit   rdf:subPropertyOf   rdf:verheiratetMit   .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-3049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erlaubt, aus dem Tripel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    </a:t>
            </a:r>
            <a:r>
              <a:rPr b="0" lang="en-US" sz="3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Markus </a:t>
            </a: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ex:glücklichVerheiratetMit    ex:Anja   .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zu schlussfolgern,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dass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    </a:t>
            </a:r>
            <a:r>
              <a:rPr b="0" lang="en-US" sz="3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Markus  </a:t>
            </a: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verheiratetMit    ex:Anja   .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7C041-33FE-44BF-877D-A16B4C68B6D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1EE7F-5D70-47CB-82D1-78DDAD4C467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schränkung von Property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häufig: Property kann sinnvoll nur ganz bestimmte Ressourcen verbinden, z.B. verbindet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verlegtBei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nur Publikationen mit Verlagen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d.h. für alle URIs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a, b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folgt aus dem Tripel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  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a   ex:verlegtBei   b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dass auch gilt: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  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a   rdf:type   ex:Publikation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b   rdf:type   ex:Verlag   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kann in RDFS direkt kodiert werden: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ex:verlegtBei   rdfs:domain   ex:Publikation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ex:verlegtBei   rdfs:range      ex:Verlag   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auch zur Angabe von Datentypen für Literale: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ex:hatAlter   rdfs:range   xsd:nonNegativeInteger   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3F7EA-97B9-4A92-B89F-53F302CC67C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schränkung von Property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Propertyeinschränkungen bieten die einzige Möglichkeit, semantische Zusammenhänge zwischen Propertys und Klassen zu spezifizier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Achtung: Propertyeinschränkungen wirken global und konjunktiv, z.B.</a:t>
            </a:r>
            <a:br>
              <a:rPr sz="3400"/>
            </a:b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autorVon   rdfs:range   ex:Kochbuch   .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autorVon   rdfs:range   ex:Märchenbuch   . </a:t>
            </a:r>
            <a:br>
              <a:rPr sz="3400"/>
            </a:b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bedeutet: jede Entität, von der jemand Autor ist, ist </a:t>
            </a:r>
            <a:r>
              <a:rPr b="1" lang="en-US" sz="3400" spc="-1" strike="noStrike">
                <a:solidFill>
                  <a:srgbClr val="000000"/>
                </a:solidFill>
                <a:latin typeface="Helvetica Neue"/>
              </a:rPr>
              <a:t>gleichzeitig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 Kochbuch und Märchenbuch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daher: als domain/range immer allgemeinste mögliche Klasse verwend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16C5B-724D-41AC-99B2-D925F33384D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8A725-6118-432B-AD3C-A48E8AD2791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rbeit mit offenen Lis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zur Erinnerung: offene Listen in RDF: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96" name="Picture 3" descr=""/>
          <p:cNvPicPr/>
          <p:nvPr/>
        </p:nvPicPr>
        <p:blipFill>
          <a:blip r:embed="rId1"/>
          <a:stretch/>
        </p:blipFill>
        <p:spPr>
          <a:xfrm>
            <a:off x="1039680" y="3098880"/>
            <a:ext cx="10923840" cy="35431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3DFF8-90AA-499B-9FFE-F024DBB3FE4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92C72-60C3-4151-A30C-2AA7A87860F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rbeit mit offenen Lis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neue Klasse: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ontainer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als Oberklasse von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Seq, rdf:Bag, rdf:Alt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neue Klasse: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ontainerMembershipProperty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lemente sind keine Individuen i.e.S. sondern selbst Propertys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intendierte Semantik: jede Property, die aussagt, dass das Subjekt im Objekt enthalten ist, ist Instanz von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ontainerMembershipProperty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s gilt also insbesondere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_1   rdf:type   rdfs:ContainerMembershipProperty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_2   rdf:type   rdfs:ContainerMembershipProperty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tc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E6917-7149-425C-9428-D529F450B2A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rbeit mit offenen Lis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neue Property: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member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Oberproperty aller in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ontainerMembershipProperty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nthaltenen Propertys, also die „universelle Enthaltenseinsrelation“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damit in RDFS-Semantik verankert: wann immer für eine Property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das Tripel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    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p </a:t>
            </a:r>
            <a:r>
              <a:rPr b="0" lang="en-US" sz="47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rdf:type   rdfs:ContainerMembershipProperty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gilt,</a:t>
            </a:r>
            <a:r>
              <a:rPr b="0" lang="en-US" sz="47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folgt aus dem Tripel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    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a </a:t>
            </a:r>
            <a:r>
              <a:rPr b="0" lang="en-US" sz="47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p   b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sofort</a:t>
            </a:r>
            <a:r>
              <a:rPr b="0" lang="en-US" sz="47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das Tripel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    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a</a:t>
            </a:r>
            <a:r>
              <a:rPr b="0" lang="en-US" sz="47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rdfs:member   b   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CA4C3-2FCC-4822-8990-29E7F67D03E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7BD5F-804F-49C8-93E3-D296955AC47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817560" indent="-5256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Problematisch in RDF(S): Modellierung von Aussagen über Aussagen (häufig zu erkennen am Wort„dass“), z.B.: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Helvetica Neue"/>
              </a:rPr>
              <a:t>„Der Detektiv vermutet, </a:t>
            </a:r>
            <a:r>
              <a:rPr b="1" i="1" lang="en-US" sz="3200" spc="-1" strike="noStrike">
                <a:solidFill>
                  <a:srgbClr val="000000"/>
                </a:solidFill>
                <a:latin typeface="Helvetica Neue"/>
              </a:rPr>
              <a:t>dass</a:t>
            </a:r>
            <a:r>
              <a:rPr b="0" i="1" lang="en-US" sz="3200" spc="-1" strike="noStrike">
                <a:solidFill>
                  <a:srgbClr val="000000"/>
                </a:solidFill>
                <a:latin typeface="Helvetica Neue"/>
              </a:rPr>
              <a:t> der Butler den Gärtner ermordet hat.“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17560" indent="-5256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erster Modellierungsversuch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merican Typewriter Condensed"/>
                <a:ea typeface="American Typewriter Condensed"/>
              </a:rPr>
              <a:t>ex:detektiv ex:vermutet "Der Butler hat den Gärtner ermordet." .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226520" indent="-52560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ungünstig: auf Literal-Objekt kann schlecht in anderen Aussagen Bezug genommen werden (keine URI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17560" indent="-5256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zweiter Modellierungsversuch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merican Typewriter Condensed"/>
                <a:ea typeface="American Typewriter Condensed"/>
              </a:rPr>
              <a:t>ex:detektiv  ex:vermutet  ex:derButlerHatDenGärtnerErmordet .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226520" indent="-52560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ungünstig: innere Struktur der dass-Aussage geht verlor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B441E-83BF-47A5-B6CC-F76866DD815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Problematisch in RDF(S): Modellierung von Aussagen über Aussagen (häufig zu erkennen am Wort„dass“), z.B.: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Helvetica Neue"/>
              </a:rPr>
              <a:t>„Der Detektiv vermutet, </a:t>
            </a:r>
            <a:r>
              <a:rPr b="1" i="1" lang="en-US" sz="3200" spc="-1" strike="noStrike">
                <a:solidFill>
                  <a:srgbClr val="000000"/>
                </a:solidFill>
                <a:latin typeface="Helvetica Neue"/>
              </a:rPr>
              <a:t>dass</a:t>
            </a:r>
            <a:r>
              <a:rPr b="0" i="1" lang="en-US" sz="3200" spc="-1" strike="noStrike">
                <a:solidFill>
                  <a:srgbClr val="000000"/>
                </a:solidFill>
                <a:latin typeface="Helvetica Neue"/>
              </a:rPr>
              <a:t> der Butler den Gärtner ermordet hat.“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einzelne dass-Aussage leicht in RDF modellierbar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merican Typewriter Condensed"/>
                <a:ea typeface="American Typewriter Condensed"/>
              </a:rPr>
              <a:t>ex:butler   ex:hatErmordet   ex:gärtner   .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wünschenswert: ganzes RDF-Tripel als Objekt eines anderen Tripels; ist aber kein gültiges RDF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3DA5A-8C2D-4E99-9E9A-6000A195422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Lösung (ähnlich wie bei mehrwertigen Beziehungen): Hilfsknoten für die geschachtelte Aussag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14" name="Oval 2"/>
          <p:cNvSpPr/>
          <p:nvPr/>
        </p:nvSpPr>
        <p:spPr>
          <a:xfrm>
            <a:off x="165240" y="7404120"/>
            <a:ext cx="11023560" cy="21844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6" name="Oval 4"/>
          <p:cNvSpPr/>
          <p:nvPr/>
        </p:nvSpPr>
        <p:spPr>
          <a:xfrm>
            <a:off x="584280" y="7988400"/>
            <a:ext cx="2361960" cy="101592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butler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Oval 5"/>
          <p:cNvSpPr/>
          <p:nvPr/>
        </p:nvSpPr>
        <p:spPr>
          <a:xfrm>
            <a:off x="4025880" y="3200400"/>
            <a:ext cx="2768760" cy="111744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detektiv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Oval 6"/>
          <p:cNvSpPr/>
          <p:nvPr/>
        </p:nvSpPr>
        <p:spPr>
          <a:xfrm>
            <a:off x="3530520" y="7620120"/>
            <a:ext cx="3861000" cy="114300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hatErmordet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Oval 7"/>
          <p:cNvSpPr/>
          <p:nvPr/>
        </p:nvSpPr>
        <p:spPr>
          <a:xfrm>
            <a:off x="7848720" y="7975440"/>
            <a:ext cx="2755800" cy="10414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gärtner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Rectangle 8"/>
          <p:cNvSpPr/>
          <p:nvPr/>
        </p:nvSpPr>
        <p:spPr>
          <a:xfrm>
            <a:off x="4212360" y="4872960"/>
            <a:ext cx="2382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vermutet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Rectangle 9"/>
          <p:cNvSpPr/>
          <p:nvPr/>
        </p:nvSpPr>
        <p:spPr>
          <a:xfrm>
            <a:off x="3912120" y="7933680"/>
            <a:ext cx="30852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hatErmordet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Line 10"/>
          <p:cNvSpPr/>
          <p:nvPr/>
        </p:nvSpPr>
        <p:spPr>
          <a:xfrm flipH="1" flipV="1">
            <a:off x="2941200" y="8473680"/>
            <a:ext cx="4915080" cy="25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Line 11"/>
          <p:cNvSpPr/>
          <p:nvPr/>
        </p:nvSpPr>
        <p:spPr>
          <a:xfrm flipH="1" flipV="1">
            <a:off x="5418000" y="4333680"/>
            <a:ext cx="15840" cy="1355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Oval 12"/>
          <p:cNvSpPr/>
          <p:nvPr/>
        </p:nvSpPr>
        <p:spPr>
          <a:xfrm>
            <a:off x="4140360" y="5689440"/>
            <a:ext cx="2641320" cy="10162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theorie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Line 13"/>
          <p:cNvSpPr/>
          <p:nvPr/>
        </p:nvSpPr>
        <p:spPr>
          <a:xfrm flipH="1" flipV="1">
            <a:off x="5417640" y="4333680"/>
            <a:ext cx="33480" cy="3098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Line 14"/>
          <p:cNvSpPr/>
          <p:nvPr/>
        </p:nvSpPr>
        <p:spPr>
          <a:xfrm flipH="1" flipV="1">
            <a:off x="6560640" y="6480000"/>
            <a:ext cx="1770120" cy="1648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Line 15"/>
          <p:cNvSpPr/>
          <p:nvPr/>
        </p:nvSpPr>
        <p:spPr>
          <a:xfrm flipV="1">
            <a:off x="2674800" y="6479640"/>
            <a:ext cx="1727280" cy="1698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Line 16"/>
          <p:cNvSpPr/>
          <p:nvPr/>
        </p:nvSpPr>
        <p:spPr>
          <a:xfrm flipV="1">
            <a:off x="5451480" y="6705360"/>
            <a:ext cx="0" cy="942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Rectangle 17"/>
          <p:cNvSpPr/>
          <p:nvPr/>
        </p:nvSpPr>
        <p:spPr>
          <a:xfrm>
            <a:off x="1494360" y="6790680"/>
            <a:ext cx="2103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subject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Rectangle 18"/>
          <p:cNvSpPr/>
          <p:nvPr/>
        </p:nvSpPr>
        <p:spPr>
          <a:xfrm>
            <a:off x="4181400" y="6917760"/>
            <a:ext cx="25459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predicate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Rectangle 19"/>
          <p:cNvSpPr/>
          <p:nvPr/>
        </p:nvSpPr>
        <p:spPr>
          <a:xfrm>
            <a:off x="7440840" y="6790680"/>
            <a:ext cx="18964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object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E99AC-C264-4D46-A401-B69DA9D0848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Lösung (ähnlich wie bei mehrwertigen Beziehungen): Hilfsknoten für die geschachtelte Aussag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4" name="Oval 2"/>
          <p:cNvSpPr/>
          <p:nvPr/>
        </p:nvSpPr>
        <p:spPr>
          <a:xfrm>
            <a:off x="165240" y="7404120"/>
            <a:ext cx="11023560" cy="21844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6" name="Oval 4"/>
          <p:cNvSpPr/>
          <p:nvPr/>
        </p:nvSpPr>
        <p:spPr>
          <a:xfrm>
            <a:off x="584280" y="7988400"/>
            <a:ext cx="2361960" cy="101592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butl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Oval 5"/>
          <p:cNvSpPr/>
          <p:nvPr/>
        </p:nvSpPr>
        <p:spPr>
          <a:xfrm>
            <a:off x="4025880" y="3200400"/>
            <a:ext cx="2768760" cy="111744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detektiv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Oval 6"/>
          <p:cNvSpPr/>
          <p:nvPr/>
        </p:nvSpPr>
        <p:spPr>
          <a:xfrm>
            <a:off x="7848720" y="7975440"/>
            <a:ext cx="2755800" cy="10414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gärtn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9" name="Rectangle 7"/>
          <p:cNvSpPr/>
          <p:nvPr/>
        </p:nvSpPr>
        <p:spPr>
          <a:xfrm>
            <a:off x="4161240" y="4833720"/>
            <a:ext cx="2015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vermute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0" name="Rectangle 8"/>
          <p:cNvSpPr/>
          <p:nvPr/>
        </p:nvSpPr>
        <p:spPr>
          <a:xfrm>
            <a:off x="3859920" y="7894440"/>
            <a:ext cx="2612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hatErmorde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1" name="Line 9"/>
          <p:cNvSpPr/>
          <p:nvPr/>
        </p:nvSpPr>
        <p:spPr>
          <a:xfrm flipH="1" flipV="1">
            <a:off x="2941200" y="8473680"/>
            <a:ext cx="4915080" cy="25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2" name="Line 10"/>
          <p:cNvSpPr/>
          <p:nvPr/>
        </p:nvSpPr>
        <p:spPr>
          <a:xfrm flipH="1" flipV="1">
            <a:off x="5417640" y="4333680"/>
            <a:ext cx="33480" cy="3098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0DE90-427B-42DF-B261-496DAA03083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Lösung (ähnlich wie bei mehrwertigen Beziehungen): Hilfsknoten für die geschachtelte Aussag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6" name="Oval 3"/>
          <p:cNvSpPr/>
          <p:nvPr/>
        </p:nvSpPr>
        <p:spPr>
          <a:xfrm>
            <a:off x="584280" y="7988400"/>
            <a:ext cx="2361960" cy="101592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butl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Oval 4"/>
          <p:cNvSpPr/>
          <p:nvPr/>
        </p:nvSpPr>
        <p:spPr>
          <a:xfrm>
            <a:off x="4025880" y="3200400"/>
            <a:ext cx="2768760" cy="111744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detektiv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8" name="Oval 5"/>
          <p:cNvSpPr/>
          <p:nvPr/>
        </p:nvSpPr>
        <p:spPr>
          <a:xfrm>
            <a:off x="3530520" y="7620120"/>
            <a:ext cx="3861000" cy="114300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hatErmorde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9" name="Oval 6"/>
          <p:cNvSpPr/>
          <p:nvPr/>
        </p:nvSpPr>
        <p:spPr>
          <a:xfrm>
            <a:off x="7848720" y="7975440"/>
            <a:ext cx="2755800" cy="10414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gärtn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0" name="Rectangle 7"/>
          <p:cNvSpPr/>
          <p:nvPr/>
        </p:nvSpPr>
        <p:spPr>
          <a:xfrm>
            <a:off x="4147920" y="4834080"/>
            <a:ext cx="1736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vermute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Line 8"/>
          <p:cNvSpPr/>
          <p:nvPr/>
        </p:nvSpPr>
        <p:spPr>
          <a:xfrm flipH="1" flipV="1">
            <a:off x="5418000" y="4333680"/>
            <a:ext cx="15840" cy="1355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Oval 9"/>
          <p:cNvSpPr/>
          <p:nvPr/>
        </p:nvSpPr>
        <p:spPr>
          <a:xfrm>
            <a:off x="4140360" y="5689440"/>
            <a:ext cx="2641320" cy="10162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theori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3" name="Line 10"/>
          <p:cNvSpPr/>
          <p:nvPr/>
        </p:nvSpPr>
        <p:spPr>
          <a:xfrm flipH="1" flipV="1">
            <a:off x="6560640" y="6480000"/>
            <a:ext cx="1770120" cy="1648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4" name="Line 11"/>
          <p:cNvSpPr/>
          <p:nvPr/>
        </p:nvSpPr>
        <p:spPr>
          <a:xfrm flipV="1">
            <a:off x="2674800" y="6479640"/>
            <a:ext cx="1727280" cy="1698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Line 12"/>
          <p:cNvSpPr/>
          <p:nvPr/>
        </p:nvSpPr>
        <p:spPr>
          <a:xfrm flipV="1">
            <a:off x="5451480" y="6705360"/>
            <a:ext cx="0" cy="942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Rectangle 13"/>
          <p:cNvSpPr/>
          <p:nvPr/>
        </p:nvSpPr>
        <p:spPr>
          <a:xfrm>
            <a:off x="1437840" y="6751800"/>
            <a:ext cx="1532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subjec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7" name="Rectangle 14"/>
          <p:cNvSpPr/>
          <p:nvPr/>
        </p:nvSpPr>
        <p:spPr>
          <a:xfrm>
            <a:off x="4122720" y="6878880"/>
            <a:ext cx="1854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predica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8" name="Rectangle 15"/>
          <p:cNvSpPr/>
          <p:nvPr/>
        </p:nvSpPr>
        <p:spPr>
          <a:xfrm>
            <a:off x="7387920" y="6751800"/>
            <a:ext cx="1381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objec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D6262-9D5D-4070-B565-E6BD8617D68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Achtung: reifiziertes Tripel muss nicht unbedingt gelt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(wäre auch nicht immer sinnvoll, z.B. bei Aussagen wie: „Der Detektiv bezweifelt, dass der Butler den Gärtner ermordet hat.“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alls dies gewünscht ist, muss das originale (unreifizierte) Tripel dem RDF-Dokument nochmals hinzugefügt werd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der Klassenbezeichner 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Statement</a:t>
            </a: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dient zur Kennzeichnung aller solcher Aussagen-Hilfsknot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alls auf eine Aussage nicht (extern) Bezug genommen wird, kann der entsprechende Hilfsknoten ein bnode sei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9ACF2-1B35-470A-A97C-79EFA5C1C7C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Übungsaufgabe: noch eine Kriminalgeschichte...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65" name="Picture 3" descr=""/>
          <p:cNvPicPr/>
          <p:nvPr/>
        </p:nvPicPr>
        <p:blipFill>
          <a:blip r:embed="rId1"/>
          <a:stretch/>
        </p:blipFill>
        <p:spPr>
          <a:xfrm>
            <a:off x="584280" y="3224160"/>
            <a:ext cx="11866320" cy="5462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97A96-10EF-4632-9935-6631C8EFEAA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A7774-C3E5-4D15-84E7-358CA5BC31E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4AF95-8619-4E06-83AD-FCAC9588E90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Zusatzinform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wie bei Programmiersprachen manchmal Hinzufügen von Kommentaren (ohne Auswirkung auf Semantik) wünschenswer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Zweck: Erhöhung der Verständlichkeit für menschlichen Nutzer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s empfiehlt sich (z.B. aus Tool-Kompatibilitätsgründen) auch dieses Wissen als Graph zu repräsentier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lso: Satz von Propertys, die diesem Zweck dienen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82150-7B30-4E4E-A28A-ACDBCF0F537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Zusatzinform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63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label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Property, die einer (beliebigen) Ressource einen alternativen Namen zuweist (Literal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oftmals sind URIs schwer lesbar; zumindest „unhandlich“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durch 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label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 zugewiesener Name wird z.B. häufig von Tools bei der graphischen Darstellung verwende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eispiel (incl. Sprachinformation):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Hominidae"&gt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Menschenaffen&lt;/rdfs:label&gt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3E41-E338-4F3F-8ACA-60A9E13B8C6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Zusatzinform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63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omment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Property, die einer (beliebigen) Ressource einen umfangreichen Kommentar zuweist (Literal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einhaltet z.B. natürlichsprachliche Definition einer neu eingeführten Klasse - erleichtert spätere intentionsgemäße Wiederverwendung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eeAlso, rdfs:definedBy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Properties, die Ressourcen (URIs!) angeben, die weitere Informationen bzw. eine Definition der Subjekt-Ressource bereitstellen 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F8040-BDF1-4746-B234-CFA55553503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Zusatzinform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63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erwendungsbeispi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81" name="Picture 3" descr=""/>
          <p:cNvPicPr/>
          <p:nvPr/>
        </p:nvPicPr>
        <p:blipFill>
          <a:blip r:embed="rId1"/>
          <a:stretch/>
        </p:blipFill>
        <p:spPr>
          <a:xfrm>
            <a:off x="2171880" y="2971800"/>
            <a:ext cx="9727920" cy="57387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D2F85-14C4-4149-B1D0-4B75F511851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C11A4-5E19-48C6-93BD-BD4F9DD6B74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 Ontologi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it den durch RDFS bereitgestellten Sprachmitteln können bestimmte Gegenstandsbereiche bereits in wichtigen Aspekten semantisch erfasst werd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uf der Basis der speziellen Semantik von RDFS kann schon ein gewisses Maß impliziten Wissens geschlussfolgert werd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ithin stellt RDFS eine (wenn auch noch vergleichsweise wenig ausdrucksstarke) Ontologiesprache dar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53838-B344-418F-B282-775454ACF97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 Ontologien -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590" name="Picture 2" descr=""/>
          <p:cNvPicPr/>
          <p:nvPr/>
        </p:nvPicPr>
        <p:blipFill>
          <a:blip r:embed="rId1"/>
          <a:stretch/>
        </p:blipFill>
        <p:spPr>
          <a:xfrm>
            <a:off x="203040" y="1892160"/>
            <a:ext cx="8026560" cy="302292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3" descr=""/>
          <p:cNvPicPr/>
          <p:nvPr/>
        </p:nvPicPr>
        <p:blipFill>
          <a:blip r:embed="rId2"/>
          <a:stretch/>
        </p:blipFill>
        <p:spPr>
          <a:xfrm>
            <a:off x="3529080" y="3195720"/>
            <a:ext cx="9450360" cy="65070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885EB-932D-4D93-B114-E227FD778F2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1 Dokument - 3 Interpret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4" name="Rectangle 2"/>
          <p:cNvSpPr/>
          <p:nvPr/>
        </p:nvSpPr>
        <p:spPr>
          <a:xfrm>
            <a:off x="647640" y="4114800"/>
            <a:ext cx="116334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terpretation als XML: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95" name="Group 3"/>
          <p:cNvGrpSpPr/>
          <p:nvPr/>
        </p:nvGrpSpPr>
        <p:grpSpPr>
          <a:xfrm>
            <a:off x="1562040" y="1879560"/>
            <a:ext cx="11212560" cy="2070000"/>
            <a:chOff x="1562040" y="1879560"/>
            <a:chExt cx="11212560" cy="2070000"/>
          </a:xfrm>
        </p:grpSpPr>
        <p:sp>
          <p:nvSpPr>
            <p:cNvPr id="596" name="AutoShape 4"/>
            <p:cNvSpPr/>
            <p:nvPr/>
          </p:nvSpPr>
          <p:spPr>
            <a:xfrm>
              <a:off x="1562040" y="1879560"/>
              <a:ext cx="11209320" cy="2070000"/>
            </a:xfrm>
            <a:prstGeom prst="pi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7" name="AutoShape 5"/>
            <p:cNvSpPr/>
            <p:nvPr/>
          </p:nvSpPr>
          <p:spPr>
            <a:xfrm>
              <a:off x="11374200" y="3682800"/>
              <a:ext cx="1400400" cy="254160"/>
            </a:xfrm>
            <a:prstGeom prst="pie">
              <a:avLst/>
            </a:prstGeom>
            <a:solidFill>
              <a:srgbClr val="ccc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8" name="AutoShape 6"/>
            <p:cNvSpPr/>
            <p:nvPr/>
          </p:nvSpPr>
          <p:spPr>
            <a:xfrm>
              <a:off x="11374200" y="3682800"/>
              <a:ext cx="1400400" cy="2541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9" name="Rectangle 7"/>
            <p:cNvSpPr/>
            <p:nvPr/>
          </p:nvSpPr>
          <p:spPr>
            <a:xfrm>
              <a:off x="1562040" y="2087640"/>
              <a:ext cx="11123640" cy="14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113760" tIns="38160" bIns="38160" anchor="ctr">
              <a:noAutofit/>
            </a:bodyPr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Description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ID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Truck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type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resourc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http://www.w3.org/2000/01/rdf-schema#Class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/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s:subClassOf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resourc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#MotorVehicl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/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/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Description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00" name="Group 8"/>
          <p:cNvGrpSpPr/>
          <p:nvPr/>
        </p:nvGrpSpPr>
        <p:grpSpPr>
          <a:xfrm>
            <a:off x="938160" y="5029200"/>
            <a:ext cx="11017800" cy="3978360"/>
            <a:chOff x="938160" y="5029200"/>
            <a:chExt cx="11017800" cy="3978360"/>
          </a:xfrm>
        </p:grpSpPr>
        <p:grpSp>
          <p:nvGrpSpPr>
            <p:cNvPr id="601" name="Group 9"/>
            <p:cNvGrpSpPr/>
            <p:nvPr/>
          </p:nvGrpSpPr>
          <p:grpSpPr>
            <a:xfrm>
              <a:off x="4437360" y="5029200"/>
              <a:ext cx="3079800" cy="754200"/>
              <a:chOff x="4437360" y="5029200"/>
              <a:chExt cx="3079800" cy="754200"/>
            </a:xfrm>
          </p:grpSpPr>
          <p:sp>
            <p:nvSpPr>
              <p:cNvPr id="602" name="Oval 10"/>
              <p:cNvSpPr/>
              <p:nvPr/>
            </p:nvSpPr>
            <p:spPr>
              <a:xfrm>
                <a:off x="4437360" y="5029200"/>
                <a:ext cx="3079800" cy="75420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03" name="Rectangle 11"/>
              <p:cNvSpPr/>
              <p:nvPr/>
            </p:nvSpPr>
            <p:spPr>
              <a:xfrm>
                <a:off x="4741560" y="5164560"/>
                <a:ext cx="247104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5040" tIns="38160" bIns="38160" anchor="ctr">
                <a:spAutoFit/>
              </a:bodyPr>
              <a:p>
                <a:pPr marL="176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3333cc"/>
                    </a:solidFill>
                    <a:latin typeface="American Typewriter"/>
                    <a:ea typeface="American Typewriter"/>
                  </a:rPr>
                  <a:t>rdf:Description</a:t>
                </a:r>
                <a:endParaRPr b="0" lang="en-US" sz="2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604" name="Group 12"/>
            <p:cNvGrpSpPr/>
            <p:nvPr/>
          </p:nvGrpSpPr>
          <p:grpSpPr>
            <a:xfrm>
              <a:off x="5289120" y="6108840"/>
              <a:ext cx="1370880" cy="753840"/>
              <a:chOff x="5289120" y="6108840"/>
              <a:chExt cx="1370880" cy="753840"/>
            </a:xfrm>
          </p:grpSpPr>
          <p:sp>
            <p:nvSpPr>
              <p:cNvPr id="605" name="Oval 13"/>
              <p:cNvSpPr/>
              <p:nvPr/>
            </p:nvSpPr>
            <p:spPr>
              <a:xfrm>
                <a:off x="5311800" y="6108840"/>
                <a:ext cx="1323720" cy="75384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06" name="Rectangle 14"/>
              <p:cNvSpPr/>
              <p:nvPr/>
            </p:nvSpPr>
            <p:spPr>
              <a:xfrm>
                <a:off x="5289120" y="6248160"/>
                <a:ext cx="137088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5040" tIns="38160" bIns="38160" anchor="ctr">
                <a:spAutoFit/>
              </a:bodyPr>
              <a:p>
                <a:pPr marL="176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3333cc"/>
                    </a:solidFill>
                    <a:latin typeface="American Typewriter"/>
                    <a:ea typeface="American Typewriter"/>
                  </a:rPr>
                  <a:t>rdf:type</a:t>
                </a:r>
                <a:endParaRPr b="0" lang="en-US" sz="2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607" name="Group 15"/>
            <p:cNvGrpSpPr/>
            <p:nvPr/>
          </p:nvGrpSpPr>
          <p:grpSpPr>
            <a:xfrm>
              <a:off x="938160" y="6324480"/>
              <a:ext cx="1841400" cy="546120"/>
              <a:chOff x="938160" y="6324480"/>
              <a:chExt cx="1841400" cy="546120"/>
            </a:xfrm>
          </p:grpSpPr>
          <p:sp>
            <p:nvSpPr>
              <p:cNvPr id="608" name="Oval 16"/>
              <p:cNvSpPr/>
              <p:nvPr/>
            </p:nvSpPr>
            <p:spPr>
              <a:xfrm>
                <a:off x="938160" y="6324480"/>
                <a:ext cx="1841400" cy="54612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09" name="Rectangle 17"/>
              <p:cNvSpPr/>
              <p:nvPr/>
            </p:nvSpPr>
            <p:spPr>
              <a:xfrm>
                <a:off x="1335240" y="6354720"/>
                <a:ext cx="104760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5040" tIns="38160" bIns="38160" anchor="ctr">
                <a:spAutoFit/>
              </a:bodyPr>
              <a:p>
                <a:pPr marL="176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3333cc"/>
                    </a:solidFill>
                    <a:latin typeface="American Typewriter"/>
                    <a:ea typeface="American Typewriter"/>
                  </a:rPr>
                  <a:t>rdf:ID</a:t>
                </a:r>
                <a:endParaRPr b="0" lang="en-US" sz="2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610" name="Line 18"/>
            <p:cNvSpPr/>
            <p:nvPr/>
          </p:nvSpPr>
          <p:spPr>
            <a:xfrm flipH="1">
              <a:off x="2671560" y="5562720"/>
              <a:ext cx="1841760" cy="866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11" name="Rectangle 19"/>
            <p:cNvSpPr/>
            <p:nvPr/>
          </p:nvSpPr>
          <p:spPr>
            <a:xfrm>
              <a:off x="1363320" y="7396200"/>
              <a:ext cx="976680" cy="3963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600" tIns="0" bIns="0" anchor="ctr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Truck</a:t>
              </a:r>
              <a:endParaRPr b="0" lang="en-US" sz="26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12" name="Line 20"/>
            <p:cNvSpPr/>
            <p:nvPr/>
          </p:nvSpPr>
          <p:spPr>
            <a:xfrm>
              <a:off x="5950080" y="5778360"/>
              <a:ext cx="180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13" name="Line 21"/>
            <p:cNvSpPr/>
            <p:nvPr/>
          </p:nvSpPr>
          <p:spPr>
            <a:xfrm flipH="1">
              <a:off x="5164560" y="6756480"/>
              <a:ext cx="433440" cy="64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14" name="Line 22"/>
            <p:cNvSpPr/>
            <p:nvPr/>
          </p:nvSpPr>
          <p:spPr>
            <a:xfrm>
              <a:off x="1805040" y="6870600"/>
              <a:ext cx="1440" cy="43020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15" name="Rectangle 23"/>
            <p:cNvSpPr/>
            <p:nvPr/>
          </p:nvSpPr>
          <p:spPr>
            <a:xfrm>
              <a:off x="1271160" y="8556120"/>
              <a:ext cx="7320960" cy="4514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600" tIns="0" bIns="0" anchor="ctr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 u="sng">
                  <a:solidFill>
                    <a:srgbClr val="009999"/>
                  </a:solidFill>
                  <a:uFillTx/>
                  <a:latin typeface="American Typewriter"/>
                  <a:ea typeface="American Typewriter"/>
                  <a:hlinkClick r:id="rId1"/>
                </a:rPr>
                <a:t>http://www.w3.org/2000/01/rdf-schema#</a:t>
              </a:r>
              <a:r>
                <a:rPr b="0" lang="en-US" sz="26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Class</a:t>
              </a:r>
              <a:endParaRPr b="0" lang="en-US" sz="26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16" name="Line 24"/>
            <p:cNvSpPr/>
            <p:nvPr/>
          </p:nvSpPr>
          <p:spPr>
            <a:xfrm>
              <a:off x="4974120" y="7950240"/>
              <a:ext cx="2880" cy="5443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17" name="Line 25"/>
            <p:cNvSpPr/>
            <p:nvPr/>
          </p:nvSpPr>
          <p:spPr>
            <a:xfrm>
              <a:off x="7115760" y="5676840"/>
              <a:ext cx="1733760" cy="433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618" name="Group 26"/>
            <p:cNvGrpSpPr/>
            <p:nvPr/>
          </p:nvGrpSpPr>
          <p:grpSpPr>
            <a:xfrm>
              <a:off x="9530640" y="7188120"/>
              <a:ext cx="2425320" cy="754200"/>
              <a:chOff x="9530640" y="7188120"/>
              <a:chExt cx="2425320" cy="754200"/>
            </a:xfrm>
          </p:grpSpPr>
          <p:sp>
            <p:nvSpPr>
              <p:cNvPr id="619" name="Oval 27"/>
              <p:cNvSpPr/>
              <p:nvPr/>
            </p:nvSpPr>
            <p:spPr>
              <a:xfrm>
                <a:off x="9530640" y="7188120"/>
                <a:ext cx="2425320" cy="75420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20" name="Rectangle 28"/>
              <p:cNvSpPr/>
              <p:nvPr/>
            </p:nvSpPr>
            <p:spPr>
              <a:xfrm>
                <a:off x="9711720" y="7331400"/>
                <a:ext cx="206100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5040" tIns="38160" bIns="38160" anchor="ctr">
                <a:spAutoFit/>
              </a:bodyPr>
              <a:p>
                <a:pPr marL="176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3333cc"/>
                    </a:solidFill>
                    <a:latin typeface="American Typewriter"/>
                    <a:ea typeface="American Typewriter"/>
                  </a:rPr>
                  <a:t>rdf:resource</a:t>
                </a:r>
                <a:endParaRPr b="0" lang="en-US" sz="2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621" name="Group 29"/>
            <p:cNvGrpSpPr/>
            <p:nvPr/>
          </p:nvGrpSpPr>
          <p:grpSpPr>
            <a:xfrm>
              <a:off x="3759480" y="7188120"/>
              <a:ext cx="2425320" cy="754200"/>
              <a:chOff x="3759480" y="7188120"/>
              <a:chExt cx="2425320" cy="754200"/>
            </a:xfrm>
          </p:grpSpPr>
          <p:sp>
            <p:nvSpPr>
              <p:cNvPr id="622" name="Oval 30"/>
              <p:cNvSpPr/>
              <p:nvPr/>
            </p:nvSpPr>
            <p:spPr>
              <a:xfrm>
                <a:off x="3759480" y="7188120"/>
                <a:ext cx="2425320" cy="75420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23" name="Rectangle 31"/>
              <p:cNvSpPr/>
              <p:nvPr/>
            </p:nvSpPr>
            <p:spPr>
              <a:xfrm>
                <a:off x="3940560" y="7331400"/>
                <a:ext cx="206100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5040" tIns="38160" bIns="38160" anchor="ctr">
                <a:spAutoFit/>
              </a:bodyPr>
              <a:p>
                <a:pPr marL="176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3333cc"/>
                    </a:solidFill>
                    <a:latin typeface="American Typewriter"/>
                    <a:ea typeface="American Typewriter"/>
                  </a:rPr>
                  <a:t>rdf:resource</a:t>
                </a:r>
                <a:endParaRPr b="0" lang="en-US" sz="2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624" name="Group 32"/>
            <p:cNvGrpSpPr/>
            <p:nvPr/>
          </p:nvGrpSpPr>
          <p:grpSpPr>
            <a:xfrm>
              <a:off x="7904880" y="5994360"/>
              <a:ext cx="3110040" cy="754200"/>
              <a:chOff x="7904880" y="5994360"/>
              <a:chExt cx="3110040" cy="754200"/>
            </a:xfrm>
          </p:grpSpPr>
          <p:sp>
            <p:nvSpPr>
              <p:cNvPr id="625" name="Oval 33"/>
              <p:cNvSpPr/>
              <p:nvPr/>
            </p:nvSpPr>
            <p:spPr>
              <a:xfrm>
                <a:off x="7904880" y="5994360"/>
                <a:ext cx="3110040" cy="75420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26" name="Rectangle 34"/>
              <p:cNvSpPr/>
              <p:nvPr/>
            </p:nvSpPr>
            <p:spPr>
              <a:xfrm>
                <a:off x="8244720" y="6139080"/>
                <a:ext cx="242856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5040" tIns="38160" bIns="38160" anchor="ctr">
                <a:spAutoFit/>
              </a:bodyPr>
              <a:p>
                <a:pPr marL="176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3333cc"/>
                    </a:solidFill>
                    <a:latin typeface="American Typewriter"/>
                    <a:ea typeface="American Typewriter"/>
                  </a:rPr>
                  <a:t>rdf:subClassOf</a:t>
                </a:r>
                <a:endParaRPr b="0" lang="en-US" sz="2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627" name="Line 35"/>
            <p:cNvSpPr/>
            <p:nvPr/>
          </p:nvSpPr>
          <p:spPr>
            <a:xfrm>
              <a:off x="9743400" y="6756480"/>
              <a:ext cx="866880" cy="433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28" name="Rectangle 36"/>
            <p:cNvSpPr/>
            <p:nvPr/>
          </p:nvSpPr>
          <p:spPr>
            <a:xfrm>
              <a:off x="9516960" y="8583840"/>
              <a:ext cx="2387880" cy="3963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600" tIns="0" bIns="0" anchor="ctr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#MotorVehicle</a:t>
              </a:r>
              <a:endParaRPr b="0" lang="en-US" sz="26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29" name="Line 37"/>
            <p:cNvSpPr/>
            <p:nvPr/>
          </p:nvSpPr>
          <p:spPr>
            <a:xfrm>
              <a:off x="10827720" y="7950240"/>
              <a:ext cx="1800" cy="5443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ransition>
    <p:cover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A126C-322A-463B-B38C-96DA2D1AB21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1 Dokument - 3 Interpret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2" name="Rectangle 2"/>
          <p:cNvSpPr/>
          <p:nvPr/>
        </p:nvSpPr>
        <p:spPr>
          <a:xfrm>
            <a:off x="914400" y="4051440"/>
            <a:ext cx="11417400" cy="67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terpretation als RDF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eres Datenmodel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788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merican Typewriter"/>
                <a:ea typeface="American Typewriter"/>
              </a:rPr>
              <a:t>rdf:Descrip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3200" spc="-1" strike="noStrike">
                <a:solidFill>
                  <a:srgbClr val="ff0000"/>
                </a:solidFill>
                <a:latin typeface="American Typewriter"/>
                <a:ea typeface="American Typewriter"/>
              </a:rPr>
              <a:t>rdf: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und </a:t>
            </a:r>
            <a:r>
              <a:rPr b="0" lang="en-US" sz="3200" spc="-1" strike="noStrike">
                <a:solidFill>
                  <a:srgbClr val="ff0000"/>
                </a:solidFill>
                <a:latin typeface="American Typewriter"/>
                <a:ea typeface="American Typewriter"/>
              </a:rPr>
              <a:t>rdf:resour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haben eine festgelegte Bedeutu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subject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predicate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objec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.  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#Truck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type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las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#Truck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#MotorVehicl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33" name="Group 3"/>
          <p:cNvGrpSpPr/>
          <p:nvPr/>
        </p:nvGrpSpPr>
        <p:grpSpPr>
          <a:xfrm>
            <a:off x="7130880" y="8688240"/>
            <a:ext cx="1727280" cy="736560"/>
            <a:chOff x="7130880" y="8688240"/>
            <a:chExt cx="1727280" cy="736560"/>
          </a:xfrm>
        </p:grpSpPr>
        <p:sp>
          <p:nvSpPr>
            <p:cNvPr id="634" name="Oval 4"/>
            <p:cNvSpPr/>
            <p:nvPr/>
          </p:nvSpPr>
          <p:spPr>
            <a:xfrm>
              <a:off x="7130880" y="8688240"/>
              <a:ext cx="1727280" cy="736560"/>
            </a:xfrm>
            <a:prstGeom prst="ellipse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35" name="Rectangle 5"/>
            <p:cNvSpPr/>
            <p:nvPr/>
          </p:nvSpPr>
          <p:spPr>
            <a:xfrm>
              <a:off x="7270560" y="8820000"/>
              <a:ext cx="1446120" cy="4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95040" tIns="38160" bIns="38160" anchor="ctr">
              <a:no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American Typewriter"/>
                  <a:ea typeface="American Typewriter"/>
                </a:rPr>
                <a:t>#Truck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36" name="Group 6"/>
          <p:cNvGrpSpPr/>
          <p:nvPr/>
        </p:nvGrpSpPr>
        <p:grpSpPr>
          <a:xfrm>
            <a:off x="10051920" y="8690040"/>
            <a:ext cx="2438280" cy="749160"/>
            <a:chOff x="10051920" y="8690040"/>
            <a:chExt cx="2438280" cy="749160"/>
          </a:xfrm>
        </p:grpSpPr>
        <p:sp>
          <p:nvSpPr>
            <p:cNvPr id="637" name="Oval 7"/>
            <p:cNvSpPr/>
            <p:nvPr/>
          </p:nvSpPr>
          <p:spPr>
            <a:xfrm>
              <a:off x="10213920" y="8690040"/>
              <a:ext cx="2112840" cy="749160"/>
            </a:xfrm>
            <a:prstGeom prst="ellipse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38" name="Rectangle 8"/>
            <p:cNvSpPr/>
            <p:nvPr/>
          </p:nvSpPr>
          <p:spPr>
            <a:xfrm>
              <a:off x="10051920" y="8831160"/>
              <a:ext cx="243828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95040" tIns="38160" bIns="38160" anchor="ctr">
              <a:no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American Typewriter"/>
                  <a:ea typeface="American Typewriter"/>
                </a:rPr>
                <a:t>rdfs:Class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39" name="Line 9"/>
          <p:cNvSpPr/>
          <p:nvPr/>
        </p:nvSpPr>
        <p:spPr>
          <a:xfrm>
            <a:off x="8842320" y="9045720"/>
            <a:ext cx="1422360" cy="10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40" name="Group 10"/>
          <p:cNvGrpSpPr/>
          <p:nvPr/>
        </p:nvGrpSpPr>
        <p:grpSpPr>
          <a:xfrm>
            <a:off x="928800" y="8636040"/>
            <a:ext cx="3720600" cy="850680"/>
            <a:chOff x="928800" y="8636040"/>
            <a:chExt cx="3720600" cy="850680"/>
          </a:xfrm>
        </p:grpSpPr>
        <p:sp>
          <p:nvSpPr>
            <p:cNvPr id="641" name="Oval 11"/>
            <p:cNvSpPr/>
            <p:nvPr/>
          </p:nvSpPr>
          <p:spPr>
            <a:xfrm>
              <a:off x="928800" y="8636040"/>
              <a:ext cx="3720600" cy="850680"/>
            </a:xfrm>
            <a:prstGeom prst="ellipse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Rectangle 12"/>
            <p:cNvSpPr/>
            <p:nvPr/>
          </p:nvSpPr>
          <p:spPr>
            <a:xfrm>
              <a:off x="1422360" y="8798040"/>
              <a:ext cx="2733120" cy="52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95040" tIns="38160" bIns="38160" anchor="ctr">
              <a:no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American Typewriter"/>
                  <a:ea typeface="American Typewriter"/>
                </a:rPr>
                <a:t>#MotorVehicle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43" name="Line 13"/>
          <p:cNvSpPr/>
          <p:nvPr/>
        </p:nvSpPr>
        <p:spPr>
          <a:xfrm flipH="1">
            <a:off x="4649400" y="9058320"/>
            <a:ext cx="2444760" cy="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4" name="Rectangle 14"/>
          <p:cNvSpPr/>
          <p:nvPr/>
        </p:nvSpPr>
        <p:spPr>
          <a:xfrm>
            <a:off x="8837280" y="8470800"/>
            <a:ext cx="1423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60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typ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5" name="Rectangle 15"/>
          <p:cNvSpPr/>
          <p:nvPr/>
        </p:nvSpPr>
        <p:spPr>
          <a:xfrm>
            <a:off x="4560840" y="8470800"/>
            <a:ext cx="2730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60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46" name="Group 16"/>
          <p:cNvGrpSpPr/>
          <p:nvPr/>
        </p:nvGrpSpPr>
        <p:grpSpPr>
          <a:xfrm>
            <a:off x="1562040" y="1879560"/>
            <a:ext cx="11212560" cy="2070000"/>
            <a:chOff x="1562040" y="1879560"/>
            <a:chExt cx="11212560" cy="2070000"/>
          </a:xfrm>
        </p:grpSpPr>
        <p:sp>
          <p:nvSpPr>
            <p:cNvPr id="647" name="AutoShape 17"/>
            <p:cNvSpPr/>
            <p:nvPr/>
          </p:nvSpPr>
          <p:spPr>
            <a:xfrm>
              <a:off x="1562040" y="1879560"/>
              <a:ext cx="11209320" cy="2070000"/>
            </a:xfrm>
            <a:prstGeom prst="pi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AutoShape 18"/>
            <p:cNvSpPr/>
            <p:nvPr/>
          </p:nvSpPr>
          <p:spPr>
            <a:xfrm>
              <a:off x="11374200" y="3682800"/>
              <a:ext cx="1400400" cy="254160"/>
            </a:xfrm>
            <a:prstGeom prst="pie">
              <a:avLst/>
            </a:prstGeom>
            <a:solidFill>
              <a:srgbClr val="ccc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9" name="AutoShape 19"/>
            <p:cNvSpPr/>
            <p:nvPr/>
          </p:nvSpPr>
          <p:spPr>
            <a:xfrm>
              <a:off x="11374200" y="3682800"/>
              <a:ext cx="1400400" cy="2541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0" name="Rectangle 20"/>
            <p:cNvSpPr/>
            <p:nvPr/>
          </p:nvSpPr>
          <p:spPr>
            <a:xfrm>
              <a:off x="1562040" y="2087640"/>
              <a:ext cx="11123640" cy="14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113760" tIns="38160" bIns="38160" anchor="ctr">
              <a:noAutofit/>
            </a:bodyPr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Description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ID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Truck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type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resourc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http://www.w3.org/2000/01/rdf-schema#Class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/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s:subClassOf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resourc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#MotorVehicl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/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/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Description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BD206-B33A-4F8E-BC92-222D32379C9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chemawissen mit RDF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 bietet universelle Möglichkeit zur Kodierung von faktischen Daten im Web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= Aussagen über einzelne Ressourcen (Individuen) und deren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ünschenswert: Aussagen über generische Mengen von Individuen (Klassen), z.B. Verlage, Organisationen, Personen etc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20" name="Picture 3" descr=""/>
          <p:cNvPicPr/>
          <p:nvPr/>
        </p:nvPicPr>
        <p:blipFill>
          <a:blip r:embed="rId1"/>
          <a:stretch/>
        </p:blipFill>
        <p:spPr>
          <a:xfrm>
            <a:off x="2146320" y="3517920"/>
            <a:ext cx="8705880" cy="7491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94304-23EB-4C75-A029-23FF50858AD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1 Dokument - 3 Interpret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53" name="Rectangle 2"/>
          <p:cNvSpPr/>
          <p:nvPr/>
        </p:nvSpPr>
        <p:spPr>
          <a:xfrm>
            <a:off x="952560" y="4257720"/>
            <a:ext cx="1137924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terpretation als RDF Schema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ieder anderes Datenmodel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merican Typewriter"/>
                <a:ea typeface="American Typewriter"/>
              </a:rPr>
              <a:t>rdf:typ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d </a:t>
            </a:r>
            <a:r>
              <a:rPr b="0" lang="en-US" sz="2400" spc="-1" strike="noStrike">
                <a:solidFill>
                  <a:srgbClr val="8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rden speziell interpretier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4" name="Line 3"/>
          <p:cNvSpPr/>
          <p:nvPr/>
        </p:nvSpPr>
        <p:spPr>
          <a:xfrm flipV="1">
            <a:off x="6525360" y="7073640"/>
            <a:ext cx="3240" cy="162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5" name="Rectangle 4"/>
          <p:cNvSpPr/>
          <p:nvPr/>
        </p:nvSpPr>
        <p:spPr>
          <a:xfrm>
            <a:off x="6661440" y="7620120"/>
            <a:ext cx="927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60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-a“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6" name="Line 5"/>
          <p:cNvSpPr/>
          <p:nvPr/>
        </p:nvSpPr>
        <p:spPr>
          <a:xfrm>
            <a:off x="6310440" y="7074000"/>
            <a:ext cx="431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7" name="Line 6"/>
          <p:cNvSpPr/>
          <p:nvPr/>
        </p:nvSpPr>
        <p:spPr>
          <a:xfrm flipV="1">
            <a:off x="6309720" y="6756120"/>
            <a:ext cx="215640" cy="32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8" name="Line 7"/>
          <p:cNvSpPr/>
          <p:nvPr/>
        </p:nvSpPr>
        <p:spPr>
          <a:xfrm flipH="1" flipV="1">
            <a:off x="6525720" y="6756120"/>
            <a:ext cx="217800" cy="32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9" name="Rectangle 8"/>
          <p:cNvSpPr/>
          <p:nvPr/>
        </p:nvSpPr>
        <p:spPr>
          <a:xfrm>
            <a:off x="5218920" y="6263640"/>
            <a:ext cx="2557080" cy="4269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600" tIns="0" bIns="0" anchor="ctr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merican Typewriter"/>
                <a:ea typeface="American Typewriter"/>
              </a:rPr>
              <a:t>#MotorVehic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0" name="Rectangle 9"/>
          <p:cNvSpPr/>
          <p:nvPr/>
        </p:nvSpPr>
        <p:spPr>
          <a:xfrm>
            <a:off x="5870160" y="8778240"/>
            <a:ext cx="1269360" cy="4269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600" tIns="0" bIns="0" anchor="ctr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merican Typewriter"/>
                <a:ea typeface="American Typewriter"/>
              </a:rPr>
              <a:t>#Truck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61" name="Group 10"/>
          <p:cNvGrpSpPr/>
          <p:nvPr/>
        </p:nvGrpSpPr>
        <p:grpSpPr>
          <a:xfrm>
            <a:off x="1562040" y="1879560"/>
            <a:ext cx="11212560" cy="2070000"/>
            <a:chOff x="1562040" y="1879560"/>
            <a:chExt cx="11212560" cy="2070000"/>
          </a:xfrm>
        </p:grpSpPr>
        <p:sp>
          <p:nvSpPr>
            <p:cNvPr id="662" name="AutoShape 11"/>
            <p:cNvSpPr/>
            <p:nvPr/>
          </p:nvSpPr>
          <p:spPr>
            <a:xfrm>
              <a:off x="1562040" y="1879560"/>
              <a:ext cx="11209320" cy="2070000"/>
            </a:xfrm>
            <a:prstGeom prst="pi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3" name="AutoShape 12"/>
            <p:cNvSpPr/>
            <p:nvPr/>
          </p:nvSpPr>
          <p:spPr>
            <a:xfrm>
              <a:off x="11374200" y="3682800"/>
              <a:ext cx="1400400" cy="254160"/>
            </a:xfrm>
            <a:prstGeom prst="pie">
              <a:avLst/>
            </a:prstGeom>
            <a:solidFill>
              <a:srgbClr val="ccc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4" name="AutoShape 13"/>
            <p:cNvSpPr/>
            <p:nvPr/>
          </p:nvSpPr>
          <p:spPr>
            <a:xfrm>
              <a:off x="11374200" y="3682800"/>
              <a:ext cx="1400400" cy="2541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5" name="Rectangle 14"/>
            <p:cNvSpPr/>
            <p:nvPr/>
          </p:nvSpPr>
          <p:spPr>
            <a:xfrm>
              <a:off x="1562040" y="2087640"/>
              <a:ext cx="11123640" cy="14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113760" tIns="38160" bIns="38160" anchor="ctr">
              <a:noAutofit/>
            </a:bodyPr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Description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ID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Truck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type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resourc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http://www.w3.org/2000/01/rdf-schema#Class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/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s:subClassOf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resourc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#MotorVehicl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/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/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Description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43EB9-DFAA-43AF-AF5E-59E8A960E74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chemawissen mit RDF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eiterhin wünschenswert: Spezifikation der logischen Zusammenhänge zwischen Individuen, Klassen und Beziehungen, um möglichst viel Semantik des Gegenstandsbereiches einzufangen, z.B.:</a:t>
            </a:r>
            <a:br>
              <a:rPr sz="4200"/>
            </a:b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"Verlage sind Organisationen."</a:t>
            </a:r>
            <a:br>
              <a:rPr sz="4200"/>
            </a:b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"Nur Personen schreiben Bücher."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 Datenbanksprache: Schemawi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F4D29-59F5-43E9-88E9-9B5025050FE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chemawissen mit RDF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9563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 Schema (RDFS)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eil der W3C Recommendation zu RDF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rmöglicht Spezifikation von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schematischem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(auch: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terminologischem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)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Wiss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spezielles RDF-Vokabular (also: jedes RDFS-Dokument ist ein RDF-Dokumen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Namensraum (i.d.R. abgekürzt mit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) :</a:t>
            </a:r>
            <a:br>
              <a:rPr sz="3600"/>
            </a:br>
            <a:r>
              <a:rPr b="0" lang="en-US" sz="3600" spc="-1" strike="noStrike" u="sng">
                <a:solidFill>
                  <a:srgbClr val="009999"/>
                </a:solidFill>
                <a:uFillTx/>
                <a:latin typeface="American Typewriter"/>
                <a:ea typeface="American Typewriter"/>
                <a:hlinkClick r:id="rId1"/>
              </a:rPr>
              <a:t>http://www.w3.org/2000/01/rdf-schema#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AC642-F166-4C2C-B521-D41FC511420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chemawissen mit RDF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270080" y="2018880"/>
            <a:ext cx="11531520" cy="891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 Schema (RDFS)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jedoch: Vokabular nicht themengebunden (wie z.B. bei FOAF), sondern generisch 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15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rlaubt die Spezifikation (von Teilen) der Semantik beliebiger RDF-Vokabulare (ist also eine Art „Metavokabular“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15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Vorteil: jede Software mit RDFS-Unterstützung interpretiert jedes vermittels RDFS definierte Vokabular korrekt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15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Funktionalität macht RDFS zu einer Ontologiesprache (für leichtgewichtige - engl.: lightweight - Ontologien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15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„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A little semantics goes a long way.“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FBDEF-2599-4DDE-8E9E-CF7CD04F59A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15:49:41Z</dcterms:created>
  <dc:creator/>
  <dc:description/>
  <cp:keywords/>
  <dc:language>en-US</dc:language>
  <cp:lastModifiedBy>Sebastian Rudolph</cp:lastModifiedBy>
  <dcterms:modified xsi:type="dcterms:W3CDTF">2008-11-05T16:00:19Z</dcterms:modified>
  <cp:revision>1</cp:revision>
  <dc:subject/>
  <dc:title>Folie 1</dc:title>
</cp:coreProperties>
</file>